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60" y="87631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9621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9A0F-F35A-4F4A-BA4C-0690B673983B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1971-F251-436C-A77E-03C1503FF7F5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8BF6-2EC9-4285-B2CA-7B9A46E6D66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A35D-50A5-497C-A243-1F21F398B7D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C38E-74F7-49C3-BD2A-A5DF71B6B6B0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E21-108A-4004-B8DF-BE15931E48B8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3176-B5DC-455C-86A6-CFE2E184114D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23ED-6819-4F87-8731-35DF08973B82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5584-2C40-41BD-A3BB-636B2F5CC43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B5D8-D232-491B-8361-9F9FB0C41030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2864-4307-4E1D-A557-CAD4583440B6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401-70DA-4D88-A3F0-B4152ADE62FA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B04B-9084-4B95-955A-236C668D1618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4FC7-C974-47EF-87AC-33E573A580B2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DE82-E576-4748-A10F-F7D35E26184D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ECF4-A578-4794-B0E0-EB073EC94751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475-1958-4756-8F4D-7B88CF312FDF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F383-62E7-44B6-B30B-D2F21D3B63E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848-B70E-4F33-9FD7-C34693BB8524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61C-16AA-4265-8682-2EE9117DA61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C00-35F8-4536-BE79-0B074ADF302C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DBD-A86E-4BF0-96C8-411CC7EFB79D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D791-225A-4459-B6BF-5D10DFBF0189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6252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40EE-11B1-4F85-94C1-90C6E4740E46}" type="slidenum">
              <a:rPr b="1" lang="en-US" sz="12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9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A933-FE3E-4351-B974-853E5F019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56297-C52A-4BA6-8FD5-DF1B498B9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4607-DCE4-4AF7-BB1C-7B5C083CF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A1A58-8F0A-4D79-A5AB-F28C13092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608B5-7D83-48FA-A7AA-76B20B61A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471120"/>
            <a:ext cx="264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887CD-7221-4C68-8B8E-9DA6085DB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4A1F-A901-4FF1-AB25-6A0F4F235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A3AE-06AC-40F5-9B71-ACCA2414F1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F676-66F2-4EC6-B846-274882D62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205A-3F95-4E77-B584-2B897D27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7112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9BAD-7A0C-42FE-B399-43AFC239A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71120"/>
            <a:ext cx="8229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EA54C-32BC-4C09-8067-A02C843EF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72040" indent="-21996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79840" indent="-1756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31920" indent="-1756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248160" y="68576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85800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a2828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506-7DEC-49DF-8F5E-7052942BD483}" type="slidenum">
              <a:rPr b="0" lang="en-US" sz="1000" spc="-1" strike="noStrike">
                <a:solidFill>
                  <a:srgbClr val="fa2828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1" marL="572040" indent="-21996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2" marL="879840" indent="-175680">
              <a:spcBef>
                <a:spcPts val="901"/>
              </a:spcBef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3" marL="1231920" indent="-175680">
              <a:spcBef>
                <a:spcPts val="901"/>
              </a:spcBef>
              <a:buClr>
                <a:srgbClr val="008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4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5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  <a:p>
            <a:pPr lvl="6" marL="1584000" indent="-175680">
              <a:spcBef>
                <a:spcPts val="901"/>
              </a:spcBef>
              <a:buClr>
                <a:srgbClr val="008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y - definition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592200" y="1905120"/>
            <a:ext cx="78660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logy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study of interactions betwee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rganisms and their 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67360" y="914400"/>
            <a:ext cx="348156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What is ecology?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65200" y="2286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685800" y="990720"/>
            <a:ext cx="205740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Habitat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the place where an organism live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pond for a beaver; tree for bark insect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34" name="Picture 14" descr="C02-07P lily pads"/>
          <p:cNvPicPr/>
          <p:nvPr/>
        </p:nvPicPr>
        <p:blipFill>
          <a:blip r:embed="rId1"/>
          <a:stretch/>
        </p:blipFill>
        <p:spPr>
          <a:xfrm>
            <a:off x="3124080" y="1828800"/>
            <a:ext cx="4876920" cy="382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Habitat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Organisms in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533520" y="16416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Habitats can change, and even disappear.  Habitats can change due to both natural and human cause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38" name="Picture 15" descr="log habitat"/>
          <p:cNvPicPr/>
          <p:nvPr/>
        </p:nvPicPr>
        <p:blipFill>
          <a:blip r:embed="rId1"/>
          <a:stretch/>
        </p:blipFill>
        <p:spPr>
          <a:xfrm>
            <a:off x="1676520" y="3124080"/>
            <a:ext cx="5790960" cy="278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Niche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1" name="Rectangle 14"/>
          <p:cNvSpPr/>
          <p:nvPr/>
        </p:nvSpPr>
        <p:spPr>
          <a:xfrm>
            <a:off x="533520" y="2133720"/>
            <a:ext cx="792468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Niche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 role or position a species has in its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  (job)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owls control rodent  population at nigh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Symbiosi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33520" y="17175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Symbiosi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 A relationship in which there is a close, permanent association between organisms of  different species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533520" y="403848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ymbiosis means living together.  Three kinds of symbiosis are recognized: mutualism, commensalism, and parasitism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Mutual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3520" y="1676520"/>
            <a:ext cx="266688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Mutualism: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oth species benefit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 bacteria i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ur gu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49" name="Picture 5" descr="mutualism"/>
          <p:cNvPicPr/>
          <p:nvPr/>
        </p:nvPicPr>
        <p:blipFill>
          <a:blip r:embed="rId1"/>
          <a:stretch/>
        </p:blipFill>
        <p:spPr>
          <a:xfrm>
            <a:off x="3505320" y="1587600"/>
            <a:ext cx="5181480" cy="34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Commensal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495680" y="1600200"/>
            <a:ext cx="33530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Commensalism: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one species benefits and the other species is unaffected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: barnacles o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whale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53" name="Picture 5" descr="Spanish moss on trees"/>
          <p:cNvPicPr/>
          <p:nvPr/>
        </p:nvPicPr>
        <p:blipFill>
          <a:blip r:embed="rId1"/>
          <a:stretch/>
        </p:blipFill>
        <p:spPr>
          <a:xfrm>
            <a:off x="762120" y="1600200"/>
            <a:ext cx="308592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533520" y="1981080"/>
            <a:ext cx="79246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Parasitism: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one species benefits and another is harmed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565200" y="914400"/>
            <a:ext cx="758808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Parasitis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533520" y="16416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Parasites have evolved in such a way that they harm, but usually do not kill the host species.  Ex:  tapeworm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60" name="Picture 5" descr="C02-08P tapeworm"/>
          <p:cNvPicPr/>
          <p:nvPr/>
        </p:nvPicPr>
        <p:blipFill>
          <a:blip r:embed="rId1"/>
          <a:stretch/>
        </p:blipFill>
        <p:spPr>
          <a:xfrm>
            <a:off x="2286000" y="3048120"/>
            <a:ext cx="4495680" cy="288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1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58760" y="1523880"/>
            <a:ext cx="8375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The study of interactions that take place between organisms and their environment is __________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84000" y="4876920"/>
            <a:ext cx="2027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biology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83640" y="4267080"/>
            <a:ext cx="20505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cology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4360" y="3657600"/>
            <a:ext cx="238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symbiosis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5080" y="3005280"/>
            <a:ext cx="1926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abiosis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590400" y="1219320"/>
            <a:ext cx="8020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Ecology is a branch of biology that developed from natural history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92200" y="1905120"/>
            <a:ext cx="7866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Most ecologists use both qualitative and quantitative research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68080" y="914400"/>
            <a:ext cx="39740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596880" y="3200400"/>
            <a:ext cx="7480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litative information by observing organis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84280" y="944640"/>
            <a:ext cx="792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3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58760" y="1698480"/>
            <a:ext cx="8375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Which of the following is a biotic factor?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685440" y="4648320"/>
            <a:ext cx="1527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light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84000" y="3875040"/>
            <a:ext cx="25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arthworm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85800" y="3124080"/>
            <a:ext cx="1550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soil 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84720" y="2441520"/>
            <a:ext cx="2207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moisture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19320"/>
            <a:ext cx="8020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C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Biotic factors are all the living organisms that inhabit an environment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68878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584280" y="8380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915"/>
                </a:solidFill>
                <a:latin typeface="Times New Roman"/>
              </a:rPr>
              <a:t>Question 4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158760" y="1459080"/>
            <a:ext cx="8375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(n) __________ is a group of organisms, all of the same species, which interbreed and live in the same place at the same time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75360" y="5261040"/>
            <a:ext cx="1992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D. habitat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40440" y="4487760"/>
            <a:ext cx="2559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. ecosystem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682920" y="3809880"/>
            <a:ext cx="2809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B. population  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680400" y="3127320"/>
            <a:ext cx="447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. biological community 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69638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Section 1 Check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590400" y="1219320"/>
            <a:ext cx="8020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answer is B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. Communities and ecosystems are comprised of more than one species. Habitat refers to the place an organism lives.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88" name="Picture 4" descr="group of antelope"/>
          <p:cNvPicPr/>
          <p:nvPr/>
        </p:nvPicPr>
        <p:blipFill>
          <a:blip r:embed="rId1"/>
          <a:stretch/>
        </p:blipFill>
        <p:spPr>
          <a:xfrm>
            <a:off x="1371600" y="2895480"/>
            <a:ext cx="6172200" cy="2765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533520" y="1676520"/>
            <a:ext cx="320040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obtain quantitative data by making measurements and carrying out controlled experiments in the field and in the laboratory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68080" y="914400"/>
            <a:ext cx="397404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logical research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95" name="Picture 15" descr="data collection"/>
          <p:cNvPicPr/>
          <p:nvPr/>
        </p:nvPicPr>
        <p:blipFill>
          <a:blip r:embed="rId1"/>
          <a:stretch/>
        </p:blipFill>
        <p:spPr>
          <a:xfrm>
            <a:off x="4038480" y="1898640"/>
            <a:ext cx="4648320" cy="305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3520" y="2232000"/>
            <a:ext cx="792468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biotic factors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Non-living parts of the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592200" y="3657600"/>
            <a:ext cx="78660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 wind, temperature, moisture,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light, and soil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38080" y="914400"/>
            <a:ext cx="762012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A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33520" y="21747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cology includes the study of features of the environment that are not living because these features are part of an organism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 life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67360" y="914400"/>
            <a:ext cx="7291800" cy="10908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nonliving environment: Abiotic 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33520" y="377496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biotic factors have obvious effects on living things and often determine which species survive in a particular environment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6857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Biotic factor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565200" y="380880"/>
            <a:ext cx="762480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The living environment: Biotic factor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33520" y="1295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 key consideration of ecology is that living organisms affect other living organis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33520" y="299412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iotic factors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:  Living organisms in an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           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nvironment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Examples: plants, animals, fungi, protists,   bacteria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tems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65200" y="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533520" y="1600200"/>
            <a:ext cx="79246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006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cosystem: 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interacting populations in a biological community and the community</a:t>
            </a: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 abiotic factor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533520" y="3774960"/>
            <a:ext cx="83818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re are two major kinds of ecosystems—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errestrial ecosystems 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8000"/>
              </a:buClr>
              <a:buFont typeface="Time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quatic ecosystems.</a:t>
            </a:r>
            <a:endParaRPr b="1" lang="en-US" sz="32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566640" y="914400"/>
            <a:ext cx="2238120" cy="587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Ecosystem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14" name="Picture 15" descr="antelope kudos"/>
          <p:cNvPicPr/>
          <p:nvPr/>
        </p:nvPicPr>
        <p:blipFill>
          <a:blip r:embed="rId1"/>
          <a:stretch/>
        </p:blipFill>
        <p:spPr>
          <a:xfrm>
            <a:off x="457200" y="1752480"/>
            <a:ext cx="8381880" cy="4572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0401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80"/>
                </a:solidFill>
                <a:latin typeface="Times New Roman"/>
              </a:rPr>
              <a:t>Example ecosystems </a:t>
            </a:r>
            <a:endParaRPr b="0" lang="en-US" sz="1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65200" y="914400"/>
            <a:ext cx="7588080" cy="108108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2d2015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</a:rPr>
              <a:t>Biotic and abiotic factors form ecosystems</a:t>
            </a: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pic>
        <p:nvPicPr>
          <p:cNvPr id="117" name="Picture 15" descr="Table 2"/>
          <p:cNvPicPr/>
          <p:nvPr/>
        </p:nvPicPr>
        <p:blipFill>
          <a:blip r:embed="rId1"/>
          <a:stretch/>
        </p:blipFill>
        <p:spPr>
          <a:xfrm>
            <a:off x="762120" y="2044800"/>
            <a:ext cx="4724280" cy="3666960"/>
          </a:xfrm>
          <a:prstGeom prst="rect">
            <a:avLst/>
          </a:prstGeom>
          <a:ln w="25560">
            <a:solidFill>
              <a:srgbClr val="008000"/>
            </a:solidFill>
            <a:miter/>
          </a:ln>
        </p:spPr>
      </p:pic>
      <p:sp>
        <p:nvSpPr>
          <p:cNvPr id="118" name="Text Box 16"/>
          <p:cNvSpPr/>
          <p:nvPr/>
        </p:nvSpPr>
        <p:spPr>
          <a:xfrm>
            <a:off x="1281600" y="1981080"/>
            <a:ext cx="3143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Table 2.1 Examples of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746280" y="2311560"/>
            <a:ext cx="16160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Terrestrial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747000" y="2746440"/>
            <a:ext cx="1549080" cy="28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ores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ld farm fiel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Meadow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Yar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Garden plo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mpty lot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Compost heap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Volcano site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Rotting log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2451240" y="2222640"/>
            <a:ext cx="1295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tic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2" name="Text Box 23"/>
          <p:cNvSpPr/>
          <p:nvPr/>
        </p:nvSpPr>
        <p:spPr>
          <a:xfrm>
            <a:off x="2400480" y="2743200"/>
            <a:ext cx="1333440" cy="28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Freshwater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Pond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Lake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tream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Salt water (marine)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cean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Estuary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Aquarium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3692520" y="2252520"/>
            <a:ext cx="1768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2015"/>
                </a:solidFill>
                <a:latin typeface="Times New Roman"/>
              </a:rPr>
              <a:t>Other Sites for Ecosystems</a:t>
            </a:r>
            <a:endParaRPr b="1" lang="en-US" sz="1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4" name="Text Box 25"/>
          <p:cNvSpPr/>
          <p:nvPr/>
        </p:nvSpPr>
        <p:spPr>
          <a:xfrm>
            <a:off x="3718080" y="2736720"/>
            <a:ext cx="1768320" cy="31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Human body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Skin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Intestine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uth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uilding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Mold in walls, floors, or basement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Ventilation system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Bathrooms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Food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Any moldy food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2d2015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2d2015"/>
                </a:solidFill>
                <a:latin typeface="Times New Roman"/>
              </a:rPr>
              <a:t>Refrigerator</a:t>
            </a:r>
            <a:endParaRPr b="1" lang="en-US" sz="14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762120" y="2730600"/>
            <a:ext cx="16761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62120" y="2273400"/>
            <a:ext cx="167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762120" y="2273400"/>
            <a:ext cx="1676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762120" y="2286000"/>
            <a:ext cx="1676160" cy="3429000"/>
          </a:xfrm>
          <a:prstGeom prst="rect">
            <a:avLst/>
          </a:prstGeom>
          <a:noFill/>
          <a:ln w="76320">
            <a:solidFill>
              <a:srgbClr val="e3f9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e3f915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24:35Z</dcterms:created>
  <dc:creator>Clayton Johns</dc:creator>
  <dc:description/>
  <dc:language>en-US</dc:language>
  <cp:lastModifiedBy>NHS NPS</cp:lastModifiedBy>
  <dcterms:modified xsi:type="dcterms:W3CDTF">2015-10-06T14:49:20Z</dcterms:modified>
  <cp:revision>4</cp:revision>
  <dc:subject>Chapter 2</dc:subject>
  <dc:title>Ecoloy - definition</dc:title>
</cp:coreProperties>
</file>